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78E9-6A95-4DE1-BDE5-B4F469FA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480B-A5F2-4C2A-A042-230D8E28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5CD-0D46-4392-9E10-4C132B43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20B-3154-46B9-926E-908F23D1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1107-2E2C-488D-82C4-FA8C07D2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E3D6-9F18-4CA9-A6F4-2CCAC15F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ED1E-6236-4FCD-8045-26BEAD88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752E-A163-4D2B-816D-F2BB896A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6DDD-7B92-4AEE-8DE8-ECFBE254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964F-CA7F-4C24-8EDE-024231EC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924F-95EA-4B96-AE04-B5A3D4F6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617E-352A-47D7-8DE9-A209EF01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817D-FD87-49A6-A870-4C34B6F8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0D9D-5566-4F6A-A0A0-BB2AB9DF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0EE0-CA8E-4306-A8EF-D4302405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B413-F9F1-48FA-B6F1-D3F786D2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7BB6-CFAA-4AE4-8B22-44B87BD4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EA728-4DBF-4C97-8BA6-76A36C2D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70E46-AFCA-49FE-9780-88E078F0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267C8-D397-4A87-A67A-9C771766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E1793-9989-4E7B-B644-575402BF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EEBA5-EE47-4C6A-A7FA-F1AD4CB9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615-2901-433C-8BE8-FBE648D4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8F3FA-F423-4A9E-A7D2-1787684F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E99DB-F4A2-44DC-A139-82B677C0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CE8E7-26B5-486D-A826-885780C9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1C6F9-E707-403F-97E5-BAE05C48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1FAFB-397A-47AC-AFAB-DEA6D2E4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55938-D7F3-48DE-A70B-DF7301BE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56DAE-9951-451A-BD7F-6A36ABF8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F0281D-B372-4F24-B006-86E8645E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F4621C-1EFB-45B7-814A-141A9708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AD192E-53F0-42BD-9F40-7BF9D031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E94-D137-4B4C-8456-4B9FA817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CD07CC-387B-4015-A2A5-B20FC297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15547A-9005-4445-BA81-4491E741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EEC981-4B7F-49F7-84D0-E2C6A26A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445607-9999-4569-989E-595ADFCA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800F58-5A2D-45BF-A615-B248BC2A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7405E8-2DA7-4B00-BA2B-414ABB81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002AF6-6BD3-4D65-A79C-D47E930B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E07E7C-9F34-43F0-89A3-3988AF82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349757-C35D-434F-9AC8-FC461871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A56D6-167E-46B3-9C75-AD4A3785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8D4B-E089-4E20-B663-01E4B402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CBE8E-6562-4BAF-86C5-199591A1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12571-D067-4C4B-AD98-44BB9DCE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A16FC-9B7C-4AF9-8C1A-3399C092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D745D-301A-4C76-AF1B-81FFD9AD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E9BC9-E7CD-4F31-847D-45E2B581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C8C4C-C539-457B-9777-557D2798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297D2-DE6D-41A5-9407-FD2A20B0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20A59-1E25-4F34-860B-F242AF21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4B9AC-126E-40A0-90BB-C9402C41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988AB-AF51-4C02-9E31-1054A74F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B2DB-FAD2-4DF7-BAED-B26696DF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E083D-E575-406D-B624-FBCD6958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608EF-BEB4-41E7-9BD4-C09A849E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F4AA5-D2AC-4211-95D9-66C5A5EB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DBB2E-CCD7-4DC6-9402-3677365E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926CD-C69B-479D-81D4-96B39AF5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1945F-E634-4BFB-919A-6616B7C6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26EA1-3AB1-46F5-A440-5763C978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441FC-E6B2-4570-BA0E-AE254359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92715-B5F5-4CDA-96BF-71BB0A1A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69F21-8F04-40C5-9769-C3D1967E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0F8B-3FD0-4295-8340-CFE07A06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C5431-7815-46CD-8C5F-0C733D02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BABFF-8FD3-4428-8D16-004BE48E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A1128-626C-4DB8-ADFB-61052286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944-E04A-4F3D-9CE0-D32B82D8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6A74-72B9-43F8-A448-49ECA050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9F22-52B3-4D2A-8DCB-6496688EB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BB3F-2BE4-442B-BA97-24CF345BD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63E9-814E-4BF9-B694-BFE353F69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7D30-1492-430A-AA1C-0AD616509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7AC4-A813-45D7-BF82-503370C1B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5AEC-75FE-4798-875B-5F082F98E5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cc00"/>
                </a:solidFill>
                <a:latin typeface="Times New Roman"/>
              </a:rPr>
              <a:t>Mi gran viaje a la Argentina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22824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: Alec Da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324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primer d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í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c600"/>
                </a:solidFill>
                <a:latin typeface="Tahoma"/>
              </a:rPr>
              <a:t>Mi gran hot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048120" y="1295280"/>
            <a:ext cx="2590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l balnear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4572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34:05Z</dcterms:created>
  <dc:creator>dalyale</dc:creator>
  <dc:description/>
  <dc:language>en-US</dc:language>
  <cp:lastModifiedBy>dalyale</cp:lastModifiedBy>
  <dcterms:modified xsi:type="dcterms:W3CDTF">2011-11-18T16:47:15Z</dcterms:modified>
  <cp:revision>2</cp:revision>
  <dc:subject/>
  <dc:title>Mi gran viaje a la Argentina</dc:title>
</cp:coreProperties>
</file>